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91522"/>
        <c:axId val="95302606"/>
      </c:barChart>
      <c:catAx>
        <c:axId val="94991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02606"/>
        <c:crosses val="autoZero"/>
        <c:auto val="1"/>
        <c:lblAlgn val="ctr"/>
        <c:lblOffset val="100"/>
        <c:noMultiLvlLbl val="0"/>
      </c:catAx>
      <c:valAx>
        <c:axId val="95302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91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04F-89A5-4EC6-9764-DE8FD732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899-375C-44D8-8341-AF3B3EAC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FCE-1828-4ED0-AB1E-C2855B19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1BC-6D22-4D25-830B-33D8A9E8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940-C7C8-4E20-9DD0-2700C874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220-3B61-4E4E-898A-CAD589F8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63B-73AB-425A-B985-BE77AD6F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620-1662-4A32-BD2C-4A7D40FE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6D5-EA38-4AE5-B894-02393FFE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220-3ACC-402C-9A61-0627D61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58E-4C46-4EF9-8DC3-EBF22EF7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7AE-0036-4515-8202-FC7E170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B4922-15C8-4803-B2F7-8AF9CEA212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