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78516"/>
        <c:axId val="52534611"/>
      </c:barChart>
      <c:catAx>
        <c:axId val="316785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34611"/>
        <c:crosses val="autoZero"/>
        <c:auto val="1"/>
        <c:lblAlgn val="ctr"/>
        <c:lblOffset val="100"/>
        <c:noMultiLvlLbl val="0"/>
      </c:catAx>
      <c:valAx>
        <c:axId val="525346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785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9CD8-5DA0-47B6-8986-1311A63A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EBD9-987D-4239-8DA1-15B9864C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B51E-1DF4-4764-BD23-66DC21C4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BB6D-3041-4089-BFE2-2F4729BF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6D03-87B0-49C4-870A-D27FBF4D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8321-2610-45AE-BB8F-155DCC51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7F44-4860-4F57-97A4-A0817CC3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2C6D-0005-442A-A80D-A4353341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F898-E3A0-476C-ACDE-812A77D7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9A90-03CE-4CEB-91B0-C74416D6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DFC5-730B-4658-92A7-00264CA5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3210-C866-47AF-802A-19ED59CB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4F2F7-53AE-4E80-B16E-0214A9AC18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