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78246"/>
        <c:axId val="97077177"/>
      </c:barChart>
      <c:catAx>
        <c:axId val="14278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7177"/>
        <c:crosses val="autoZero"/>
        <c:auto val="1"/>
        <c:lblAlgn val="ctr"/>
        <c:lblOffset val="100"/>
        <c:noMultiLvlLbl val="0"/>
      </c:catAx>
      <c:valAx>
        <c:axId val="97077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78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18C-E8EE-4E95-BEAF-E1CC6CFE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3CF-03EF-40C5-82E8-4569607C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DAF-C633-4521-A8C9-427EECA4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4D6-3981-4C29-9B01-5567313F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072-08BB-4902-8E23-A056D7A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A70-15E2-48A5-AB8E-570493DF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3CB-92F0-4C6E-9EAE-8186587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D35-4438-48E7-AE94-743C001E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1C3-6B80-4BB5-8126-F1DCD36E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DDE-D1E8-45DF-99CF-ADEA917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B6D-F2BB-4E17-BDBB-43C3C3E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C8C-59A1-4C5B-A8E7-FE03C6C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BBE49-B614-4DA1-8D74-B67926E27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