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734106"/>
        <c:axId val="4058584"/>
      </c:barChart>
      <c:catAx>
        <c:axId val="567341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8584"/>
        <c:crosses val="autoZero"/>
        <c:auto val="1"/>
        <c:lblAlgn val="ctr"/>
        <c:lblOffset val="100"/>
        <c:noMultiLvlLbl val="0"/>
      </c:catAx>
      <c:valAx>
        <c:axId val="40585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341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7240-703E-4460-9D3A-F89D6337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579-2674-4DF5-840A-BB954C34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9E01-7BE4-466B-82E3-037F18D8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0E0-1C02-4AA8-AF28-B123E278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4304-907F-4146-9B6C-BA17969C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E00B-915C-47D8-8945-20C9F609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0ED-464D-49E2-A5E0-87DD4554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ACF3-F7C1-4060-98CA-44386DE2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AD9-1AB8-4BB7-9044-C5D031EA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94D8-CEFB-428A-914E-6DCEE2D7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C0CE-5238-4B22-B950-AA73AEE5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6D17-2593-4BC7-A362-EDAEF09C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3730E-AEB5-41BE-8CFD-E85F8A5F7D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