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56375"/>
        <c:axId val="81814111"/>
      </c:barChart>
      <c:catAx>
        <c:axId val="392563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14111"/>
        <c:crosses val="autoZero"/>
        <c:auto val="1"/>
        <c:lblAlgn val="ctr"/>
        <c:lblOffset val="100"/>
        <c:noMultiLvlLbl val="0"/>
      </c:catAx>
      <c:valAx>
        <c:axId val="81814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563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05B-B464-42A2-90A7-076ECAEE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CD9-291E-48C5-A0DA-B365318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428-3E10-4081-AB68-CF563228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E189-E08D-4872-94E5-F3C370B4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C93-2854-4F13-953A-3BA526F3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1A2A-8107-44D7-869A-3B0AB142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385-769B-4A13-B11F-09D71959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679-4AAE-4262-A812-CF9BE030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AC9-3B37-4316-A808-00174148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835E-8F00-4245-99BF-17E5D1F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940A-67CC-42CE-BAD7-97564EC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62F-EF13-4E44-AA82-91EE19B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65CF4-0D02-4518-B8E9-B2D688403A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