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98654"/>
        <c:axId val="90839660"/>
      </c:barChart>
      <c:catAx>
        <c:axId val="77986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839660"/>
        <c:crosses val="autoZero"/>
        <c:auto val="1"/>
        <c:lblAlgn val="ctr"/>
        <c:lblOffset val="100"/>
        <c:noMultiLvlLbl val="0"/>
      </c:catAx>
      <c:valAx>
        <c:axId val="908396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86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ADAE-CA14-444E-9538-3EA6ECB2F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9599-089A-43EC-889C-F2CC9C3A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A5A1-27E4-4703-A200-D3DD5089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1F11-9A3F-4AF8-891A-A1F2C34E7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296C-B3FC-4FDA-BB2E-9F6B2E5C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B88B-EA1F-4830-B470-1B41482D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F4B2-455B-459D-983A-B3BA3543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28F9-B283-4A82-9E78-73AA338B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E96D-C342-4643-85D1-48C294F3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6F83-5A93-40F8-A07C-CE262A3C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B8E1-A03E-46A0-81A7-92F45EDF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3C06-4273-4177-BB6C-A1430A25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8AE69-1D0D-4820-8F31-201B83BCB3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