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0129"/>
        <c:axId val="6159506"/>
      </c:barChart>
      <c:catAx>
        <c:axId val="8130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9506"/>
        <c:crosses val="autoZero"/>
        <c:auto val="1"/>
        <c:lblAlgn val="ctr"/>
        <c:lblOffset val="100"/>
        <c:noMultiLvlLbl val="0"/>
      </c:catAx>
      <c:valAx>
        <c:axId val="6159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0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1B5-EAC3-4FC2-A0F8-300E1779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949-2972-484E-89A3-FDEEEF87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C4D-BE73-40BF-BDCA-460AABCC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B16-CFE3-4100-8BA9-594E148C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457-5095-4D79-B47F-0BEEF13D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F0C-DB82-45B9-A5E4-C9B05744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73F-EFC2-4C6F-9770-F47B7E67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5D6-89E7-4B81-9E8E-03A1DFEA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20F-2128-4436-9951-C6F767FB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E4C-7923-4170-836C-79579E1E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AAC-339A-44BD-BA7B-7F3E41EF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982-084F-4DE9-B561-A91FF61D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B2C0F-1A40-44B2-9F4A-C0BBBFE6D0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