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2365"/>
        <c:axId val="77460649"/>
      </c:barChart>
      <c:catAx>
        <c:axId val="9452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0649"/>
        <c:crosses val="autoZero"/>
        <c:auto val="1"/>
        <c:lblAlgn val="ctr"/>
        <c:lblOffset val="100"/>
        <c:noMultiLvlLbl val="0"/>
      </c:catAx>
      <c:valAx>
        <c:axId val="7746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2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892-DBF9-479A-828F-CE9D247D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5C7-75D4-4F0C-BE41-937EF766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9F-6C91-45EA-8FE2-AB365437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B06-49DB-462A-90E9-9888DC63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F54-4B1E-4042-A4ED-B1BB287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104-C785-4064-89F7-C4B314B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B3C-A70C-46AB-9945-D684166D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3E7-8B47-4B9E-A92F-E2AC8C1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307-639C-468C-8B97-4D5DB0E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62D-99ED-41BD-A2B2-C6B673D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676-6072-435F-9EA4-F73EA03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699-07B8-4959-916B-3CF2C36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EB648-6FDB-4713-9B57-8E4247F43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