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89782"/>
        <c:axId val="50554808"/>
      </c:barChart>
      <c:catAx>
        <c:axId val="807897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54808"/>
        <c:crosses val="autoZero"/>
        <c:auto val="1"/>
        <c:lblAlgn val="ctr"/>
        <c:lblOffset val="100"/>
        <c:noMultiLvlLbl val="0"/>
      </c:catAx>
      <c:valAx>
        <c:axId val="50554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897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C740-256C-4EB1-8D24-44C5B0CB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0B01-188F-4824-B5B4-89489BC6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9C5-53B5-44F1-83FD-ECF02518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1686-F9F9-4B24-B534-B984CBBE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E30E-28ED-4471-9362-B1A2A792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198D-51C9-4617-BE62-F6BB6785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5AB-94F9-4966-9FB7-0706D7DA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D5A2-F9DD-43B1-BF52-2C15BE3F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F02-F3E2-491E-9030-6B8EE4A6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6E7-EA9A-424A-A605-9747A081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08E5-7121-4122-B885-B301F533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AA9-9CDE-49CB-A030-D415742E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20035-9262-4C61-80EC-3C69D8F8A0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